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F851-96A8-46BD-8B9C-2EE1E78A8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503100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0475-7AF3-4A12-B0BE-13EACBF82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688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5517-4C79-4504-8508-1865E4082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172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02040" y="219996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172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02040" y="5031000"/>
            <a:ext cx="27806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29D2-6CEA-4577-B968-14914554F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18EF-64FC-4DC9-B24B-8C6D067C1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5A78-7389-4620-93F4-01AB9C0FB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FF00-70AC-4178-A78A-F423FB8FB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1E21-9F3C-4BAC-A126-E86B554B3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423360"/>
            <a:ext cx="8636040" cy="82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BDFF-5827-4F83-BE66-8667E87F7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AFC2-37D8-4A14-910F-AE767B82D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6880" y="503100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0B4A-7DA3-4CF1-9F4E-248202A57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6880" y="2199960"/>
            <a:ext cx="421416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5031000"/>
            <a:ext cx="8636040" cy="2585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E60D-AABE-4C9A-BC37-574488545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19996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02DF-00F6-4336-B4ED-6122A0902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ers/isabelarias/Downloads/Downloads/RAR%20:%20ZIP/635_beach_ppt/635.ppt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Users/isabelarias/Downloads/Downloads/RAR%20:%20ZIP/635_beach_ppt/635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052720" y="1608120"/>
            <a:ext cx="7145280" cy="3589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96960" y="-1390680"/>
            <a:ext cx="8210520" cy="30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674ea7"/>
                </a:solidFill>
                <a:latin typeface="Arial"/>
                <a:ea typeface="Arial"/>
              </a:rPr>
              <a:t>Climate &amp;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63760" y="6503760"/>
            <a:ext cx="7024680" cy="31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360" y="-360"/>
            <a:ext cx="85932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60066"/>
                </a:solidFill>
                <a:latin typeface="Arial"/>
                <a:ea typeface="Arial"/>
              </a:rPr>
              <a:t>Anemometer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320" y="225756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strument which measures wind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51120" y="3247920"/>
            <a:ext cx="369576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55320"/>
            <a:ext cx="9664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7400" y="2260440"/>
            <a:ext cx="4025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9900"/>
                </a:solidFill>
                <a:latin typeface="Arial Bold"/>
                <a:ea typeface="Arial Bold"/>
              </a:rPr>
              <a:t>It's.....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206360"/>
            <a:ext cx="312408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 Black"/>
                <a:ea typeface="Arial Black"/>
              </a:rPr>
              <a:t>sunny</a:t>
            </a:r>
            <a:r>
              <a:rPr b="0" lang="en-US" sz="3600" spc="-1" strike="noStrike">
                <a:solidFill>
                  <a:srgbClr val="fd9a00"/>
                </a:solidFill>
                <a:latin typeface="Arial Black"/>
                <a:ea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9a00"/>
                </a:solidFill>
                <a:latin typeface="Arial Black"/>
                <a:ea typeface="Arial Black"/>
              </a:rPr>
              <a:t>win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578d"/>
                </a:solidFill>
                <a:latin typeface="Arial Black"/>
                <a:ea typeface="Arial Black"/>
              </a:rPr>
              <a:t>clo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rial Black"/>
              </a:rPr>
              <a:t>stor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800"/>
                </a:solidFill>
                <a:latin typeface="Arial Black"/>
                <a:ea typeface="Arial Black"/>
              </a:rPr>
              <a:t>hai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b100"/>
                </a:solidFill>
                <a:latin typeface="Arial Black"/>
                <a:ea typeface="Arial Black"/>
              </a:rPr>
              <a:t>sn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0047"/>
                </a:solidFill>
                <a:latin typeface="Arial Black"/>
                <a:ea typeface="Arial Black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2cfd"/>
                </a:solidFill>
                <a:latin typeface="Arial Black"/>
                <a:ea typeface="Arial Black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0000" y="1380960"/>
            <a:ext cx="0" cy="5537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07800" y="307440"/>
            <a:ext cx="768348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5a7c"/>
                </a:solidFill>
                <a:uFillTx/>
                <a:latin typeface="Stone Sans ITC TT-Bold"/>
                <a:ea typeface="Stone Sans ITC TT-Bold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68600" y="482904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wind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563-CDCB-4875-B134-C773D8380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9090-FEB3-4D83-9047-1B531DD367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997360" y="0"/>
            <a:ext cx="1353852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79164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86cd4d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22480" y="2555640"/>
            <a:ext cx="542268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torm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D46-CC4F-4496-B58A-5A1EB5000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C705-603D-471D-94DD-59587833DC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77840" y="-71280"/>
            <a:ext cx="10348920" cy="776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1640" y="119808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arcoal CY"/>
                <a:ea typeface="Charcoal CY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2840" y="3495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rain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010-3E9C-482C-85FC-C8719E3A4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E161-FF2B-4196-A81A-98AD19FC71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81360" y="3368520"/>
            <a:ext cx="6756480" cy="2146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now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522A-25EF-459C-9BE4-8FDC73E14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F023-E156-4370-9E67-CBC980EB22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98280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49000" y="3482640"/>
            <a:ext cx="8636040" cy="5419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sunn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D58-5190-4B6A-BC0C-5AD340F4C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CAC9-4237-4589-A6C1-906A4B5409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55520" y="3279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1"/>
              </a:rPr>
              <a:t>It’s h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75280" y="2629080"/>
            <a:ext cx="342288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874F-4E93-48AB-BDFB-B5BB1D95DD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3920" y="108432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55520" y="32796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cloudy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B59-DCC6-4F96-BA70-DE555213B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7BCB-42E9-4C6C-AEBD-CF6E960DB3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34960" y="2057400"/>
            <a:ext cx="3886200" cy="5079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8480" y="28368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25720" y="3355560"/>
            <a:ext cx="4064040" cy="1778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Stone Sans ITC TT-Bold"/>
                <a:ea typeface="Stone Sans ITC TT-Bold"/>
                <a:hlinkClick r:id="rId2"/>
              </a:rPr>
              <a:t>It’s col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264D-1913-4DBC-A6CE-BF369E9727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5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5920" y="1724040"/>
            <a:ext cx="6923160" cy="22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6600"/>
                </a:solidFill>
                <a:latin typeface="Arial"/>
                <a:ea typeface="Arial"/>
              </a:rPr>
              <a:t>Vocabul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62040" y="2257560"/>
            <a:ext cx="41468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eath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tmospher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Clima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Precipi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in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Meteorologi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nemomete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Wind va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3440" y="2444760"/>
            <a:ext cx="463716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01924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440" y="116064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entury Gothic"/>
                <a:ea typeface="Century Gothic"/>
              </a:rPr>
              <a:t>What's the weather like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8080" y="3508200"/>
            <a:ext cx="542268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33"/>
                </a:solidFill>
                <a:latin typeface="Stone Sans ITC TT-Bold"/>
                <a:ea typeface="Stone Sans ITC TT-Bold"/>
              </a:rPr>
              <a:t>It’s hailing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192880" y="6941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C5A-FA07-4A3D-B4DE-AA4D97EB9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DF9-B98F-4823-AE84-93EF685B1C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23360"/>
            <a:ext cx="8636040" cy="1776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00e6"/>
                </a:solidFill>
                <a:latin typeface="Abadi MT Condensed Extra Bold"/>
                <a:ea typeface="Abadi MT Condensed Extra Bold"/>
              </a:rPr>
              <a:t>Which instruments do you use to study the wea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2354400"/>
            <a:ext cx="1498680" cy="25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444492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73760" y="2550960"/>
            <a:ext cx="2990880" cy="292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25400" y="5105520"/>
            <a:ext cx="201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her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2240" y="5676840"/>
            <a:ext cx="154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wind v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03840" y="6616800"/>
            <a:ext cx="194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nem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8C77-10FD-4E9F-BEF3-B6CBEE212F6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98400" y="10922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63640" y="2971800"/>
            <a:ext cx="129528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11360" y="5662440"/>
            <a:ext cx="1600200" cy="156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5760" y="-287280"/>
            <a:ext cx="8636040" cy="1776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  <a:ea typeface="Abadi MT Condensed Light"/>
              </a:rPr>
              <a:t>Match each picture with its defini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  <a:ea typeface="Abadi MT Condensed Light"/>
              </a:rPr>
              <a:t>Write on your note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9000" y="1689120"/>
            <a:ext cx="42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Stone Sans ITC TT-Semi"/>
                <a:ea typeface="Stone Sans ITC TT-Semi"/>
              </a:rPr>
              <a:t>It measures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53000" y="3594240"/>
            <a:ext cx="40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28"/>
                </a:solidFill>
                <a:latin typeface="Stone Sans ITC TT-Semi"/>
                <a:ea typeface="Stone Sans ITC TT-Semi"/>
              </a:rPr>
              <a:t>It measures the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280" y="5613480"/>
            <a:ext cx="433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Stone Sans ITC TT-Semi"/>
                <a:ea typeface="Stone Sans ITC TT-Semi"/>
              </a:rPr>
              <a:t>It indicates the wind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87520" y="1787400"/>
            <a:ext cx="3006720" cy="1886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85280" y="2084040"/>
            <a:ext cx="3051000" cy="1700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01200" y="5929200"/>
            <a:ext cx="2895480" cy="3924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DD5-0494-4383-9737-40C994C3A38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5560" y="1303200"/>
            <a:ext cx="10211040" cy="46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FA66-5B99-45F9-AFBE-F9E3492E64F4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ccffff"/>
                </a:solidFill>
                <a:latin typeface="Arial Bold"/>
                <a:ea typeface="Arial Bold"/>
              </a:rPr>
              <a:t>Weather: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The state of the atmosphere at a given mo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94280" y="1882800"/>
            <a:ext cx="38545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6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ccffff"/>
                </a:solidFill>
                <a:latin typeface="Arial"/>
                <a:ea typeface="Arial"/>
              </a:rPr>
              <a:t>Atmosphere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air that surrounds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64200" y="2370240"/>
            <a:ext cx="4233960" cy="42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7680" y="3005280"/>
            <a:ext cx="4743360" cy="31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000" y="55080"/>
            <a:ext cx="854892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1d74"/>
                </a:solidFill>
                <a:latin typeface="Arial"/>
                <a:ea typeface="Arial"/>
              </a:rPr>
              <a:t>Climate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83160" y="1469880"/>
            <a:ext cx="41450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combination of the different types of weather in a reg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563400"/>
            <a:ext cx="85489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 Bold"/>
                <a:ea typeface="Arial Bold"/>
              </a:rPr>
              <a:t>Precipita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8520" y="1625760"/>
            <a:ext cx="407196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Any form of </a:t>
            </a:r>
            <a:r>
              <a:rPr b="0" lang="en-US" sz="4400" spc="-1" strike="noStrike">
                <a:solidFill>
                  <a:srgbClr val="0d0d0d"/>
                </a:solidFill>
                <a:latin typeface="Arial Bold"/>
                <a:ea typeface="Arial Bold"/>
              </a:rPr>
              <a:t>water</a:t>
            </a: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 (</a:t>
            </a:r>
            <a:r>
              <a:rPr b="0" lang="en-US" sz="4400" spc="-1" strike="noStrike">
                <a:solidFill>
                  <a:srgbClr val="ffff00"/>
                </a:solidFill>
                <a:latin typeface="Arial Bold"/>
                <a:ea typeface="Arial Bold"/>
              </a:rPr>
              <a:t>rain, snow or hail</a:t>
            </a: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) that falls on the earth’s 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38720" y="2359080"/>
            <a:ext cx="3757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 Bold"/>
                <a:ea typeface="Arial Bold"/>
              </a:rPr>
              <a:t>Wi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0320" y="2257560"/>
            <a:ext cx="41464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movement of ai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994280" y="2063880"/>
            <a:ext cx="3927600" cy="39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85489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3b332"/>
                </a:solidFill>
                <a:latin typeface="Arial Bold"/>
                <a:ea typeface="Arial Bold"/>
              </a:rPr>
              <a:t>Wind va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62040" y="2257560"/>
            <a:ext cx="414684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strument that measures the wind dir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58920" y="2444760"/>
            <a:ext cx="47638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819440"/>
            <a:ext cx="3714840" cy="139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-360"/>
            <a:ext cx="913932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a19ff"/>
                </a:solidFill>
                <a:latin typeface="Arial"/>
                <a:ea typeface="Arial"/>
              </a:rPr>
              <a:t>Meteorologist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62040" y="2257200"/>
            <a:ext cx="4146840" cy="53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cientist who studies the weather and the atm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69880" y="2603520"/>
            <a:ext cx="28386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